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DE6-CBD3-4485-933E-71509072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FE7-0938-48B8-8F37-A8C5B435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98E-DCFC-422D-870E-07B5F405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947-6DD3-49B6-863D-B48711DC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4FD7-44C7-48BE-B753-A9E22E77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D010-DD3C-4E28-8F3D-60AE2A2D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0FE-1502-4489-B0FB-9A7FD9DB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4425-E802-4E19-963A-9C8C2F6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D22-14B1-4EFB-A10B-0EB30DA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89E5-E313-47AC-9326-8975BA7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5EC7-AE61-432B-92E2-24CBF45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196-2157-43E8-8FB2-B0880B99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3B96-F158-43B9-BB18-2DDFB88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D54-EB85-43F2-86A0-2D818B81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1126-B83E-4E52-ABF2-68BF711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CA2D-6442-48C9-8F95-F4FBAEB5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E120-7632-4C33-B5DB-9830F60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62B-948A-4679-8A31-8D8FC7C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E80-770F-41FA-946C-2FDF410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05B-F31B-4C96-8151-C4E14A6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F2C-A25A-4C5A-B501-539A5830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632-A525-4456-A9E5-887F4B6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5A3-A51B-4B0D-9BF3-EE43186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819-5358-4805-9D12-F667E55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3AD-BD68-48BA-B387-21F817FEF5E8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E3D0-8AA7-42ED-87C9-5781C7BA396B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-6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-654120"/>
          <a:ext cx="208080" cy="725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2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0"/>
          <p:cNvSpPr/>
          <p:nvPr/>
        </p:nvSpPr>
        <p:spPr>
          <a:xfrm>
            <a:off x="1800" y="659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-6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-654120"/>
          <a:ext cx="208080" cy="725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2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8"/>
          <p:cNvSpPr/>
          <p:nvPr/>
        </p:nvSpPr>
        <p:spPr>
          <a:xfrm>
            <a:off x="1800" y="659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10 Track 10.wma" descr=""/>
          <p:cNvPicPr/>
          <p:nvPr/>
        </p:nvPicPr>
        <p:blipFill>
          <a:blip r:embed="rId2"/>
          <a:stretch/>
        </p:blipFill>
        <p:spPr>
          <a:xfrm>
            <a:off x="-304920" y="1700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400800" y="-2816280"/>
            <a:ext cx="3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114800" y="0"/>
            <a:ext cx="48052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0" y="2556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468360" y="1752480"/>
            <a:ext cx="388764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зэф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рашэўскі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3208320" y="1344600"/>
            <a:ext cx="9144000" cy="3544920"/>
            <a:chOff x="3208320" y="1344600"/>
            <a:chExt cx="9144000" cy="3544920"/>
          </a:xfrm>
        </p:grpSpPr>
        <p:sp>
          <p:nvSpPr>
            <p:cNvPr id="132" name="Rectangle 4"/>
            <p:cNvSpPr/>
            <p:nvPr/>
          </p:nvSpPr>
          <p:spPr>
            <a:xfrm>
              <a:off x="3208320" y="1344600"/>
              <a:ext cx="91440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3208320" y="1725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693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66"/>
            </a:outerShdw>
          </a:effectLst>
        </p:spPr>
      </p:pic>
      <p:sp>
        <p:nvSpPr>
          <p:cNvPr id="135" name="Rectangle 7"/>
          <p:cNvSpPr/>
          <p:nvPr/>
        </p:nvSpPr>
        <p:spPr>
          <a:xfrm>
            <a:off x="-3192480" y="48895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228600" y="5791320"/>
            <a:ext cx="85438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 гэтай хаце жыў студэнт Юзэф Крашэўскі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287640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68316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250920" y="2708280"/>
            <a:ext cx="288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. Орда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0" y="0"/>
          <a:ext cx="3635280" cy="27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635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icture 7" descr=""/>
          <p:cNvPicPr/>
          <p:nvPr/>
        </p:nvPicPr>
        <p:blipFill>
          <a:blip r:embed="rId6"/>
          <a:stretch/>
        </p:blipFill>
        <p:spPr>
          <a:xfrm>
            <a:off x="0" y="4497480"/>
            <a:ext cx="3635280" cy="236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0" y="-9360"/>
          <a:ext cx="9144000" cy="68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WordArt 3"/>
          <p:cNvSpPr txBox="1"/>
          <p:nvPr/>
        </p:nvSpPr>
        <p:spPr>
          <a:xfrm>
            <a:off x="324000" y="404640"/>
            <a:ext cx="6864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уліца Брэсцкая (цяпер Леніна).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Акварэль Н. Орды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279576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4356000" y="2492280"/>
            <a:ext cx="403236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Віктар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man Old Style"/>
              </a:rPr>
              <a:t>Гельтм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2824200" y="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395280" y="1341360"/>
            <a:ext cx="3886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муальд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раўгут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814400" y="-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68316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228600" y="1219320"/>
            <a:ext cx="3352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Плакід 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Янкоўскі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85768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2771640" y="5950080"/>
            <a:ext cx="484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К. Каліноўскі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3851280" y="333360"/>
            <a:ext cx="529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радзіўся 21 студзень 1838 г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3995640" y="1197000"/>
            <a:ext cx="4815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47 г паступіў у 1-ы клас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іслацкай гімназіі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3924360" y="342900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58 г. быў створаны бюс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. Калиноўскаг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WordArt 12"/>
          <p:cNvSpPr txBox="1"/>
          <p:nvPr/>
        </p:nvSpPr>
        <p:spPr>
          <a:xfrm>
            <a:off x="3924360" y="2421000"/>
            <a:ext cx="496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63-64 г. кіраўнік паўстан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3924360" y="472428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87 г. гімназіі прысвое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імя К.Каліноўскаг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400800" y="-4348080"/>
            <a:ext cx="3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4751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0" y="-5256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3657600" y="3581280"/>
            <a:ext cx="51814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Аляксанд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man Old Style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man Old Style"/>
              </a:rPr>
              <a:t>Палубінскі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400800" y="1074600"/>
            <a:ext cx="3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47624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0" y="260280"/>
            <a:ext cx="250020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18900000" blurRad="0" rotWithShape="0">
                    <a:srgbClr val="ff0000">
                      <a:alpha val="50000"/>
                    </a:srgbClr>
                  </a:outerShdw>
                </a:effectLst>
                <a:latin typeface="Bookman Old Style"/>
              </a:rPr>
              <a:t>200</a:t>
            </a:r>
            <a:endParaRPr b="1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18900000" blurRad="0" rotWithShape="0">
                  <a:srgbClr val="ff000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116000" y="620640"/>
            <a:ext cx="7777080" cy="568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іслаччына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есень звонкіх мара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 краявіды - воч не адарваць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І самыя ярчэйшыя тут зор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 небе цемнабэзавым гараць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395280" y="541800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Мястэчка Свіслач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у старажытнасці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0" y="-9360"/>
          <a:ext cx="9144000" cy="68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WordArt 3"/>
          <p:cNvSpPr txBox="1"/>
          <p:nvPr/>
        </p:nvSpPr>
        <p:spPr>
          <a:xfrm>
            <a:off x="324000" y="404640"/>
            <a:ext cx="6864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уліца Брэсцкая (цяпер Леніна).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Акварэль Н. Орды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WordArt 3"/>
          <p:cNvSpPr txBox="1"/>
          <p:nvPr/>
        </p:nvSpPr>
        <p:spPr>
          <a:xfrm>
            <a:off x="228600" y="5877000"/>
            <a:ext cx="86868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Свіслач у малюнках Н. Орды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400800" y="1535040"/>
            <a:ext cx="36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43038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400800" y="1660680"/>
            <a:ext cx="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268200"/>
            <a:ext cx="9296280" cy="6039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0" y="4178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533520" y="594360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Свіслач (Малюнак Н.Орды)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400800" y="-8717040"/>
            <a:ext cx="3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0" y="-2743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219640" y="18900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264c"/>
                </a:solidFill>
                <a:latin typeface="Times New Roman"/>
              </a:rPr>
              <a:t>Сенатар  Вялікага  княства  Літоўскага, уладальнік  мястэчка, апякун  і  фундатар  гімназіі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2d4c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2d4c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400800" y="1535040"/>
            <a:ext cx="36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0" y="43038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952880" y="1676520"/>
            <a:ext cx="381024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Абеліс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на гандлёва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плошч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400800" y="-3868560"/>
            <a:ext cx="3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-2793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04920" y="5943600"/>
            <a:ext cx="8381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Будынак гімназіі імя Р.Траўгута ў Свіслачы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08:47Z</dcterms:created>
  <dc:creator>Ученик</dc:creator>
  <dc:description/>
  <dc:language>en-US</dc:language>
  <cp:lastModifiedBy>Grey Wolf</cp:lastModifiedBy>
  <dcterms:modified xsi:type="dcterms:W3CDTF">2012-01-10T20:14:53Z</dcterms:modified>
  <cp:revision>56</cp:revision>
  <dc:subject/>
  <dc:title>Презентация PowerPoint</dc:title>
</cp:coreProperties>
</file>